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1C94-C9FB-4E8C-9418-FC9E1C2ED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45A7-AA71-43BD-9D29-322BE18BE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0DB-D201-43C2-A5B4-4DCAA3BB6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an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380-BCDC-41AF-8E91-8C9B8BD14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FE6-9E61-4B72-8809-62687B10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CE3-722A-4422-94D9-462DDE2B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EF9-5245-4022-9D7E-298C669C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434-20C9-4AFD-A60D-0330E0EB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A33-8622-401B-BD14-AD814EC5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622-D58F-4594-AAAF-CFFEC59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D9D-7FFB-4953-8684-1551100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89D-6012-4394-8B80-E91DB44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85D-3038-4A7F-99AD-8C22832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1C4-BB12-4B7B-8823-4AF9FB6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694-C0D5-4D1E-BA1E-908F2E7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18D-E39D-4780-824A-A3834A1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5997"/>
            </a:gs>
            <a:gs pos="100000">
              <a:srgbClr val="1025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7C31-E4DA-46EE-97CA-0DAFD74E7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4786200" y="1571760"/>
            <a:ext cx="42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o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Inj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in MV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7120" y="579132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ames Cri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NET Practice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oughtWorks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214280" y="2571840"/>
            <a:ext cx="678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James Cris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133640" y="2428920"/>
            <a:ext cx="6938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642960" y="1459080"/>
            <a:ext cx="8286840" cy="78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Verdana"/>
              </a:rPr>
              <a:t>ASP.NET MVC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Verdana"/>
              </a:rPr>
              <a:t>View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816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46440"/>
                <a:tab algn="l" pos="5003640"/>
                <a:tab algn="l" pos="5460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&lt;%= person.Name %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285920" y="2317680"/>
            <a:ext cx="678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Verdana"/>
              </a:rPr>
              <a:t>Cod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285920" y="48420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285920" y="22147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tentially dangerous Request.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071880" y="34290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ml.En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357720" y="50720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ic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ultiply 6"/>
          <p:cNvSpPr/>
          <p:nvPr/>
        </p:nvSpPr>
        <p:spPr>
          <a:xfrm>
            <a:off x="500040" y="1928880"/>
            <a:ext cx="114300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714680" y="3357720"/>
            <a:ext cx="1214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3d69b"/>
                </a:solidFill>
                <a:latin typeface="Arial Black"/>
              </a:rPr>
              <a:t>O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0"/>
          <p:cNvSpPr/>
          <p:nvPr/>
        </p:nvSpPr>
        <p:spPr>
          <a:xfrm rot="10800000">
            <a:off x="2071440" y="4643280"/>
            <a:ext cx="1143000" cy="15004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42920" y="1254240"/>
            <a:ext cx="90010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blog.codeville.net/2007/12/19/aspnet-mvc-prevent-xss-with-automatic-html-encod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r Google/Bing: mvc automatic html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42920" y="285840"/>
            <a:ext cx="8358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More Info /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42920" y="621504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lickr.com/photos/niemster/68797351/ -- 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2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e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142920" y="363060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jamescrisp.org (for code &amp; pre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85880" y="2643120"/>
            <a:ext cx="757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05:01:06Z</dcterms:created>
  <dc:creator>James Crisp</dc:creator>
  <dc:description/>
  <dc:language>en-US</dc:language>
  <cp:lastModifiedBy>James Crisp</cp:lastModifiedBy>
  <dcterms:modified xsi:type="dcterms:W3CDTF">2009-08-21T07:27:32Z</dcterms:modified>
  <cp:revision>392</cp:revision>
  <dc:subject/>
  <dc:title>Slide 1</dc:title>
</cp:coreProperties>
</file>